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D9B-0579-4A2E-9297-FC6767A7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2BE-27CC-4458-B6B3-FEDCE4A4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758-BB0F-47B5-BFB2-5C33173D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E17-EF86-41D9-A608-F3034944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3A94-F206-4935-A250-20483955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F308-7529-4127-BD00-C7C47489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8BEC-BFAE-43A7-9CDB-04BEBF6A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ABD2-08B3-45D8-90DF-F1E5F0F7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5155-BF24-43EE-9E6C-694B75F2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E153-B6F6-41EB-B75F-5DEBD6C3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901F-A0FC-4EA7-918F-36256281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C0A-5D3A-4906-900C-BA7E4D6B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8655-98C9-4913-B941-2FE19242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8582-D28A-49C8-BF42-4184EA4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776F-38B4-4106-8E93-2B247965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BB6C-A9BD-4486-971E-8AD13C4E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8F2B-95F2-4B35-850F-5C499444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5FE-6426-4238-AADC-493DF96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86E-EE2D-4F0F-AFCB-4B983D5C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80B-1F51-4A7A-8E86-D0E19A9A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CE2-6E08-4E90-B05A-F77EE28B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45A-16DA-4BEC-9263-1F4771AC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212-2C1C-4A9D-B3BB-B000057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F05-7185-4C30-9417-79273A3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E586-9C40-4DBE-BF5A-3B8693C3C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71B6-EA8A-42A2-BED6-7CAC315B5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CI_Visuals_Food_Taco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en.wikipedia.org/wiki/Image:Pizza_1_bg_0322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en.wikipedia.org/wiki/Image:Cut-up_quesadilla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erida_Roman_Theatre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Image:Iraq_header_2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Jose Gonzalez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bout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 m Good At…”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 good at soc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 good at video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 good at 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2520" y="4648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4651200"/>
            <a:ext cx="3657600" cy="220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“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y favorite websites include…”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hoo- e-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tv.com- for anybody who likes soc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ingart.com- I like to see nice draw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Favorite Food”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c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adi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Hard-shell taco made with a prefabricated shell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7242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Home-made pepperoni pizz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47242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 quesadilla, cut into wedges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724280"/>
            <a:ext cx="286704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y Favorite Teachers are…..”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one that does not give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f I could I would….”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trip to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Roman Theatre of Mérida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648320"/>
            <a:ext cx="4191120" cy="192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9051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10 years I….”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I could owned my own busi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Favorite artists/athletes are….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The E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all about 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03:28Z</dcterms:created>
  <dc:creator>004student</dc:creator>
  <dc:description/>
  <dc:language>en-US</dc:language>
  <cp:lastModifiedBy>004student</cp:lastModifiedBy>
  <dcterms:modified xsi:type="dcterms:W3CDTF">2008-10-23T15:39:20Z</dcterms:modified>
  <cp:revision>5</cp:revision>
  <dc:subject/>
  <dc:title>Jose Gonzalez</dc:title>
</cp:coreProperties>
</file>